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A33-AC02-41B1-BEB7-0745A741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FAC-3EE9-40F9-AB65-4F3B8EC0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65DA5-E17E-47AB-9272-BE1086B5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67D26-E58A-4455-A668-41D72A03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8B0B6-E21D-470D-8CCB-A66E66E7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1FEF3-C8BF-4BD1-A3BD-F6975B0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974C7-B8B3-4C77-8F62-C42FC7D8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E9019-4011-4433-8B3B-6739B0D6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145AF-12C9-4790-A0A7-0E307736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C1ACC-8AE0-4058-93B8-8EA43419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47A55-D57D-40C2-9C32-0731F125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98E80-A73D-43E4-B34B-53330EA8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002-D9FF-4DEB-80DF-257E85F1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A2EDD-297E-4741-99CE-197A1C2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42F4A-0E8A-41D9-ABB0-0F4B4E5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5EAC3-0E5C-441C-86C7-4AC45026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71094-D5E5-4F71-8B92-2563EAA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0BB42-61CF-4BD2-AD70-288BE045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2F089-1BA6-44DB-B0FD-BFF1B09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AFA5-1025-4EFC-A9F6-EF35C0A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A115D-E36D-4D6E-9067-58A3470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298D7-2601-4A21-A006-464F9F94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3EBF9-9606-4C50-91A5-3B2BBBDE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AB5-44D0-480B-966C-307883E0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A9310-9E0C-41B5-B61C-D96B1AFA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229C8-F887-4E1A-8B91-E62DE626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474A-32CE-4C6B-8FE0-73070AE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B2001-B0BF-4503-BD0E-52E3216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F15EC-9358-4515-9548-A161E31D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174BB-FA7D-4921-8AB9-EFAA529D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29B5B-7C5A-44FF-A4DB-B35B1FF6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B3BF7-6010-4D85-A067-ADB515A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AD67A-CFEC-4BC1-907D-9942759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3FC5E-D6DB-4E3E-82AE-9FBC668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4BBE-C5C4-4A7F-8635-E883D5B4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8971B-B23E-47D7-8ED3-D03BB11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73696-1473-46F9-BEBF-AC443351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8900B-4F9E-4A86-9E7D-396D040A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BD4AA-7527-4625-85EC-54C5406C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035B4-6FDC-4A1F-94E3-99CD43B4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18ED3-0E90-4B6B-8615-4EAEAA5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9B06A-548E-4181-B09D-9AE46337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A918F-8592-42CC-8F08-E0B0B23A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B0E51-5C90-4CD0-8069-59A4703D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78674-C4C2-40C6-B6E9-33E2B72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2A8E-A40F-4545-9CB7-213AADFA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05721-E345-4D2C-A9DC-74225C8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0C390-53EC-4429-8E7A-67E21C5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923B-79A8-47D9-BBB4-EB062705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A1750-FCC0-413C-B28A-DE0D8EB9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12564-3A0B-4551-8BAF-3EFB10E4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B4E64-38F3-4F86-B0F8-6F489102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DAB3A-0A55-4F10-9CCC-05551A3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6BDA8-5E31-42E9-8592-0278C53E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61FAE-85EC-461B-AB98-251BC2CD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3E99F-1712-45D0-BB0C-3D5C3FEC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28FA-2568-4D43-B05F-42C3EEE2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02CC5-8DD8-452D-B55A-17CC7D46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E6E97-016E-4F85-90BD-F1BC06D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45F77-0DB1-4F8A-ABD9-22EFFD1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E4182-F1FF-4AFB-B80A-B96310A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88E26-C5D7-482D-A7DD-6419ACF1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8FDD9-4DC8-484B-8EC5-A619BD2B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D4333-4D59-4C23-AD67-5ED304A9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7DB4C-2FBA-4657-83C7-5952AB10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F999F-A117-4F32-B732-C0BB5369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7F9C8-8685-4761-B369-4F536034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B003-6A2B-48B2-8562-20243126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CA0CE-8A75-4C5D-BF5E-00E6ADCD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895B9-C0DA-4072-9DAD-83857E4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6871B-F4FA-4617-806B-FB820D49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3B8EE-529C-4090-8768-E7ADC81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DE488-00DC-4A9F-A843-2F937CC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325EF-7BA2-4339-B868-E9C4BD1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0604A-CF14-4727-AC0F-D018AE9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7C0D9-C464-4410-9547-89894BF5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3037C-F9DD-46B1-9A39-112C4B32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6B288-2E4F-41B3-81A6-ADFA2EC1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8F5F-A90D-4037-BCF5-48007EB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9A571-6107-4051-B639-171EF78C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B596E-94CC-4BB8-9549-C144E5B1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E3362-641A-4453-850C-F5C310E0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D21BD-853D-4D7A-A252-ADDD82FE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19C07-0866-4E0B-A2AD-ADC647B6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49145-E653-4F22-9366-14151F1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36550-0A6C-49C6-8D17-E209E8C7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F6444-29EF-480E-A4F3-179F865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4EE57-ECE1-4700-A813-CAC4C0FF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59DE5-A62B-4113-A032-4729EF28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5FDC-7351-4DDB-8A3D-BB66F7FD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80FAE-4D93-48E5-AA7C-665A07D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0FF99-3B8B-4DA6-A9AD-0898740B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D83D8-A7DA-4632-8DDD-F8399B5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CEE4E-380F-4453-B32D-183EF5E3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61A39-A208-4065-999C-CA62FA9E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77C28-4F6E-4F70-8005-BF7D5433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8D7F6-F365-48C5-ADAE-E90480F5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C2FA5-309B-47F9-AEC9-6ACC26BE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35476-8744-4963-AF02-B211CFB9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50855-12FF-4033-93B7-CC50AF7B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D475-8568-4232-ABC5-89CF50C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86A80-06FB-4A66-B23E-1709ED64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9458E-10AF-46E5-950D-F72CF7A7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BF184-C6B0-4565-B563-AA48A6CE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51370-EE68-40A4-8884-B7D33930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16C43-F2F3-4781-9D11-5B9CE15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2A635-AE90-4724-8A4E-38A58B42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F4BC3-E39D-4057-AEAB-57C2B32B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BD3D6-03B4-4B58-ABF9-B192DF47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F2C6C-C07F-49D0-87DE-7AE95ECD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C9BE6-E836-4C08-8DD8-51F2C8EE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024-09C5-4CF8-91CD-5E4719F0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66BF-66B5-486B-908D-93FD9121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C93C5-BB9C-4C02-91CA-C6EB5D6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A45B5-1A57-4DEA-9B35-40F340D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32A61-B610-436B-9CF5-A5770C3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BA93A-C67F-47FB-AC54-DF530DB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79C5C-4886-4E12-B140-A699E625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B967F-FA2F-49BE-B357-704D580E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419A3-F3F4-4064-847D-AEC0AA58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E64D2-6AFC-4900-B34E-3D4164A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DCFD9-AAAE-4196-8491-C79264EE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D73DD-186E-4F09-8B7F-8CFFFAF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0DA6-A27B-4B97-999E-51D7252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A1AA4-F85F-43D7-AD4A-981A2A78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7BAB7-E6E7-47E9-8BB8-40F27C0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7FB91-A858-4604-9DEC-A16AB01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FFA8A-F976-4A6E-AB66-8A492DFA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556C2-32C1-4A72-9AD2-4DD2976E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D50BE-C321-486A-B049-4F565AB1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9C551-690B-4612-92BB-F2C16F59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17B77-A21C-4B81-8A33-ADF46E0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C34C7B-847D-4065-BE23-D0F0DD29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2A763-81C0-4699-8A99-03F2B88B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DE04-FE78-4B3B-BD68-8886DF22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473F6-BC46-4BAC-A6EB-DA12CF4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285FC-3ECC-44A4-8D66-BE578914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632BD-B65E-4748-B6E0-A49FF43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FDE11-C298-4BDC-84F0-351B613A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939B75-C395-4DE4-BD40-517CA67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BA635-A81D-4599-B6D9-B9801769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071BCE-D90A-46E8-A89F-A817EA24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F0E43-4DFC-4CDA-AF36-452FD1BE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5EA7B-0B49-47A9-BCD4-62E70399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A9679-038D-47E2-8404-2F892272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850C-93A9-4B0E-8EBB-3B1E356F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B4901-38F9-49C3-9A44-159998C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A41D5-A4DD-48D5-AD1A-7023EEF7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21E29-D62B-40FB-B7BB-9875C92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F5AB3-D3C1-4B90-8A67-E51BB487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6644E-2168-4C9F-BB98-1DDD045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F6809-11D8-48F9-966F-98D9893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5C3C0-6159-4D54-96FA-99861EB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9B358-B1C0-4ECD-BD99-98A27470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418CD-32C5-44FD-A46B-093AE698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623F5-3567-4539-A030-EBC15E46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C25E-3909-4498-953E-C3269BFA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304A0-E745-4759-A94A-4D229C96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5DFA56-A5D4-4E41-947F-53D8FE4A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26925-A603-4EF5-B383-70E7A11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7B92BF-4C50-486B-B973-3B52CCE4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B8D567-0D07-4B28-A3F6-BEF3EA63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FA6C7-BA09-4553-9F61-88ACA4EC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0208E-448C-40BA-8A53-324EA7AC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4A015-7BEF-47C2-8242-F263EE2E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E0E54-83FE-4364-A913-2FD144A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9499F-E15C-44ED-9B02-76B342A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FCEA-94E3-4049-98ED-96533021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3CD5D2-54D1-42BD-A4EA-4BA6024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06624-51BC-4465-9789-5C856AA5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E29F8-7BA2-4902-86C2-7DA3D8A3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B2009-AB9D-4E27-A2C1-2B244A38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860879-22D0-420B-AA0E-446907A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E278B-5477-44FA-A337-1675D498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C11991-DBF8-4D37-AF3B-94A7EBF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5B717F-3A87-4AFB-BDAC-9C8553B7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96FE7B-91F7-4BD0-A2F8-4A450EAD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E7F937-9460-4C2F-AD19-E0674B6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4782-6075-4DC1-A54B-EC25D2BF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F5C1D9-56C6-4148-AFC1-5FB419A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3EB0D3-9640-48C6-9BE5-5299251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BE98A8-5B13-48CB-9807-56170259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017FEB-B40B-48E2-AFA9-A63AABD7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D13487-77F3-4BC2-A51D-FFFA484B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32FDF-F954-493D-83E7-4AA1FCE2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4A2EC-4E28-4D81-AD1E-4E55F8C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76F7DC-2AA4-45B2-B8F8-41D6563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4D5654-BE6B-450E-8021-C916ACBB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A028AC-29D7-4EAB-BA1B-687775F8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19EC-BC77-4FD5-919D-5E4A68AF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6988BA-1696-458B-A062-6027F4C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78661-EFB9-49C0-806B-476F1E05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E4970-68EB-48F8-97B0-630EB10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47646-1D3D-4ED7-8B27-3949A4A2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40108C-E055-4AF2-BC8C-B4C11BA4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0F1ED1-8556-4D46-872D-27D5431B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C64844-6056-492E-B332-E6B20398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5A303A-E71E-431C-B890-944FC37F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F1065D-77F9-4F6E-848E-E44E5BF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96A42C-64B0-429F-91ED-C90EDC97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6DE3-68CF-44F0-8C93-C85CD520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4B0B1F-1770-4039-AD7D-EAB1AE2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62A723-4117-4C36-A4D2-47BB0D8F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BEF17A-E5D8-41D2-85F4-0119C730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50EE49-4D25-42C4-A9AC-368A2A8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B10FC6-7D30-4D66-9394-6B18E2F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3DEFB8-EBE8-4DF0-84AD-8D075A58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4A72F-0EA7-45CA-A883-6B089C4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98EC0A-9AB2-4259-A6DB-2C042107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0E88B7-7B1A-4846-B985-024A7D62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C1EDD2-AF5D-4BBB-9E05-C3B8BB94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FE9B-3DB5-422D-9954-BE5CAD4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4276A3-EF6E-4640-88A6-80DE4D14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D3333B-7F7A-42B0-833F-CC004F9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80D505-EC07-41B2-9A87-D27F624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CFDD6D-690B-4FF5-96B5-9068DB5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D720EC-9BF9-476D-972F-A924299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1A1472-3760-45E9-A539-783F269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A7261B-FA65-4FF9-A9DF-207F0ED6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446546-B5DF-4726-A1EA-583F1F4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AB6F49-DDB6-4145-B790-E3C79706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CF03FF-A0B9-4EEE-9370-FAC7DF85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74D-1EEE-4387-A7AC-711CEFF2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266C-B304-4F32-9202-D23C932B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3EFAEC-DFC9-4E61-B926-6169D441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B498CD-EE72-4C09-9243-D2C968C8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B72CF0-6D89-4966-90DE-8341E0B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5B3FA8-4218-4476-BDB0-461A5CC7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02EB43-A0F5-4BCD-96CD-49F1BDD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DEB85F-3E3B-4844-9C0B-507D6821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DA7FA2-8F48-4E4F-91EC-CB0F576C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3AD911-A8FF-4856-A3D2-D5ED53F6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064837-4495-471C-B430-DC2FD67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E59561-3339-4573-95C6-27FE0E02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6690-AF11-4F98-BFA2-279025A7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25BCFC-7B2C-4727-8119-D1E9B356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AFC532-3AB1-4FEB-AF92-644B8E76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870F2D-7438-4515-B524-C4D181ED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3FE904-FDFF-4E4D-80D2-5616B7A3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E62072-369B-4241-A6C5-8A726A52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DE4F68-27B7-4ABD-8C53-F2AC4C70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33655E-DCC9-4C2F-ABC0-F58BC32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254269-4773-4FCB-8D89-2232666E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96F656-A10C-4B50-A0FA-97D02FD9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967BFB-206A-4939-95AE-B333E750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2D66-2D39-4031-AAFF-B20034F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292547-DB24-4322-9CF4-4C3B700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9F914C-F8EA-48F5-8D58-EBB09FA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490DEC-787F-4BF2-9445-2BFC2A3A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3CC7BA-3B55-4BEB-9133-809558FF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D2B308-C82F-4024-B3B0-31EB3E2E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A240E5-04FC-494F-A05C-6F0F823F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977DD-7C81-4155-81BE-6A3D03D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0F6DBD-3413-4ED5-AEA2-F479A58E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D5E33C-EC03-4356-93BF-FF8CCB83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8A5CE1-A996-4F5A-9DDD-4FED1E43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3683-1386-49B2-83A4-47712B79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612476-5D29-42C4-9C80-74EEB32F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AD7342-5C76-410C-87DF-0675B82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64EE3A-24A5-4E21-9473-E1EEBE2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568FD9-D84C-404E-ADC7-AA4DEC5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00AAEF-0729-4FAE-AA09-9B553896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848021-5E83-4A6C-B168-9A5A2C60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02341D-4408-4104-A067-D43FBA46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0043D2-478D-4245-A96C-0DF1138E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42BBDE-A31C-47D4-B357-FD4A6AEE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8958B7-F524-48F7-97E9-DE1D43AC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24A2-958D-47F4-8515-2AFC0B12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CA7BC7-9DE8-47BE-8C99-7741141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C1B078-A599-437B-82FC-EB1B311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A46704-3684-467F-951B-B79ADB3E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BA11D8-8FCA-4D06-89DA-02DFEC6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C75E0B-4A9C-4581-8442-1A770739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68C1F8-8485-4B89-95D6-D3ECB135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BBFEFD-A0ED-441B-9AC4-441B168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BCF9BD-EBA7-4C0E-A6E8-74D26306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A203C9-5083-4758-8737-52CCB8FE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0F161C-4E1D-4952-AE31-D2EE2C05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BC09-83A5-4C96-A53E-D8A99E7B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6BCFE4-80AD-41E2-858B-68989F4D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99230B-115A-4CC8-B9B0-C711882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B013A7-0190-4983-826E-8139156F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185659-305E-46E4-8538-E59FC38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243615-D3C9-48D0-BF26-4D7B44B3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C0F94B-1565-4255-A9EE-4BD1F782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A0424E-4B2D-4FA0-B8A4-CB22F0D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8FD027-2B4C-4776-80B2-335BD88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2EA250-C417-4577-B24A-E67EDB31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D1EB9C-9FD9-4B8E-AE2C-7B3F2352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C6FB-3358-415B-B154-A21D3A8F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AB59E0-2CCA-4A1C-A116-B4D95EAE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38FAA1-04A2-4E3A-B772-7D7D42C3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8BCE16-8139-4C55-A705-DE5979DD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33D74E-040D-43BB-BE12-057C50A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E23C40-DC3B-4C02-8719-33AAB50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60870B-0A30-4362-A168-C00B1899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2CDE77-C710-4DE7-8B9F-250C84AB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68DC07-874C-417A-977D-3CE8BEA1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74B962-243B-422E-86C1-5CB18583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DA4F8D-E42C-40F3-A56E-2099C46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D34A-C441-452F-870E-D9254395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FC24C8-2C2F-4963-B54E-54515131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DF373B-AFE8-4974-B95E-DB109470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D6A0A9-DF26-4780-B6B5-939A0604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9D6C-2983-45A3-A13A-DB43B5B8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72D0-007C-4CF9-A39C-412F88A6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1F6-20F4-42EB-8F75-BCE6C304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50F9-4DA1-4172-B896-93C2D25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50D3-0537-4743-9173-B3CD9117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F655-1863-418A-9B8B-229A7514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E3B7-E0D8-497F-B945-F3C8C866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55D2-B519-4BCC-AF5A-05FF2F7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FA2E-8059-4517-A5CB-1EBF2AC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44D0-CD05-47B5-81D2-CD6E312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5F35-90B5-4497-A9CA-B2B3DFCE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DEE8C-7645-4F09-8D06-17EAFF98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A652-85DD-41D1-A8B4-CEEED1C7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E00-3FD5-4775-A591-3455E55C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E8FE-18D4-4DB2-8531-B524EAEC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1C33A-3E95-4C7D-9FD2-B4A0AE5C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84F07-B876-4059-8209-2A81AE3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F9C07-C860-46D9-9105-478F8A2B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E8D7-3A83-4E87-9F80-2C4F92AF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A5E3-F72E-4FE7-8969-C4FA515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98B0-7F4D-4956-8972-F8A09816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09F93-6FC4-448D-907A-F2808C0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0BA5-490F-448C-8A6F-AB734717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671A-31B5-4709-8CD8-9C4DA544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69F-8DF7-4820-A164-BA5CB76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CD3E-6496-4C32-88CF-DD65133D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902B0-39B6-482E-ABFE-B4948177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8E23-5CA4-4909-82E4-7C6FC154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7420-453B-49D7-BEF6-A7609907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8653-4201-474C-99B9-0C02F303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6C89-421E-4586-8E78-77815CEB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A24D-82F6-4B89-B3E2-78BB9A8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9027-2D98-4F49-869B-5A539D0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72458-D631-43C4-8E3B-6AAF8AB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EAFF-81AB-40B7-A9B7-6ADDBA6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1D7-9483-4CCA-84D1-AC0D1B2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21DC-6717-4FD5-AA0D-17F69A35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5760-2444-4C5F-A422-D6897B20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0BED-E8F4-4466-831F-38CC8CA8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DEE78-F06E-4F9B-BED2-106129FD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041C-2043-40B6-8D98-916837BF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5AB4B-9204-4744-9687-73573427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BB6ED-FF78-4473-BC51-FFD11C3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785D-F40B-4803-9AC5-E5648BF7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BC4FA-1069-4B9E-8AC9-03941D82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6085-99B2-45DA-B33D-BB18D59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012-1080-4DCF-A9D5-5ECC514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D8C1-E2F8-4C0E-A2C3-5E0975E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750B7-E144-41F1-87C3-2B1520D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7E743-00F9-4E0F-B736-2CD65BF9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C0AB-A7C0-4590-9B8C-0FADB09C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C78B5-FE13-4EF9-9725-AAD26306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DDACB-9A04-4B05-931D-4C35E652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479E-9FEA-4CBD-9B96-ECC4C091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93069-6176-4A80-A61D-7CCADBB2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924BC-DF34-440A-A192-A3452C21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5E24-6FE9-4252-BD72-2C491CD1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87C-D7DD-463F-9464-641BF20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B1C41-1EFF-4C5B-8DF0-441F6B4D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6464-391B-4C85-B7CA-B9E8B70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D06F0-58AD-4083-9A3E-693ED22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36C59-1A03-43B5-AD87-A822BC2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3F9C-3F2F-4F32-B57F-8B1C457F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CD3E-2B33-4FBD-B620-1475E751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0BE17-15A2-4CF9-A28B-AE20579A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1E0A1-7FE2-4B6C-8E69-7BC71109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3CD5A-1FD2-449C-96E1-09D6DE79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25DC2-5613-4585-9943-868D9F8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D281-CF89-47F7-A901-00F00CA12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468B-6BB9-4FEB-83AC-08A6921BF1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FAD3-3145-4CC9-A006-FA2E29752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6C7E-568A-4B9A-B451-E766EEFF5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8FA8-769F-496F-BE6B-808BB67954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BBA5-9EB4-4AED-9C10-C3BE24F14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51B5-F18D-4ECD-BE08-3DC6916BE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F304-A9BC-4415-BF74-2506387B3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CB7F-0D92-4FA2-87DF-BF831275BA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7A3A-EE0E-47C5-8B3A-CD2447B07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F67-FD7C-45F0-BFB5-9F9AD39AA9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9E6D-D7C4-484D-AD53-A7BA66CC8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8D08-BE9D-40C0-B876-2B935EBF1B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3BE5-41E7-4573-95EF-280F2CE6F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900C-6582-4CE0-8E7F-E65B4633C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5650-8DD8-48BF-99E8-CB1173F81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558-70D3-4947-9F30-82F64196D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88AD-8BC8-492B-8416-2F59B0622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68EE-BEB3-4D10-95F2-78DF61773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1CB8-447F-4C55-8DC6-648566ACB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813D-4C0C-45DA-BB15-0354509AB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9F8-ECB3-4DC5-8336-2CE8D220D5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8A9B-E3A9-4BDA-803B-71BD142716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5C1C-DBC8-4FA4-8E9A-04FD91621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E85-BD8A-43D1-90B8-6E7E51074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7AA4-114A-4EDC-9101-F19BCEBD5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35C-138C-417A-BE63-780A1A4D7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7612-8768-4176-B1B0-1919BC42F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70EA-E5B6-4B4D-9317-E949A72026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C0EC-F662-4BB9-BB7C-49F0D4729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906E-B5D0-4766-9583-4FCAE4AD2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9EA7-F813-4B14-8DEF-C220D93EE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9E94-97ED-4226-98CF-F274FFF9A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C7EA-E424-49CC-804C-6F4943EFE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5EB-B646-4866-A6C0-EA4800710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476-B8AC-412F-A580-FC311F762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AEA9-0A48-40CF-AD77-1D64648CF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E1A3-FFF7-4F68-B6BB-16907078D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723A-B32D-4385-8F32-57FBAFAA0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FEFA-16B4-477E-848E-832E1D2583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16A8-4741-44C2-B224-D66CEC218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8DFD-554C-4F75-9004-C8BF9E138A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FE2E-402D-438A-877E-5C9B9DE41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CDF0-65CA-4ACD-8F14-C97983FC0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3184-1932-4C8C-BED9-C8EB355FB4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AF1-E12F-45B3-B8DB-9D0AE43F5D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4620-BA79-485B-BAB3-FFC512F291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39B9-A5A6-46E5-B871-C6296E21D5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0C78-12EF-41CB-84B3-3D8D3B82F0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8636-B5BF-4662-955F-07AA4901F2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066760" y="3129120"/>
            <a:ext cx="501048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6737" descr=""/>
          <p:cNvPicPr/>
          <p:nvPr/>
        </p:nvPicPr>
        <p:blipFill>
          <a:blip r:embed="rId1"/>
          <a:stretch/>
        </p:blipFill>
        <p:spPr>
          <a:xfrm>
            <a:off x="552600" y="1228680"/>
            <a:ext cx="7962840" cy="440064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6738"/>
          <p:cNvSpPr/>
          <p:nvPr/>
        </p:nvSpPr>
        <p:spPr>
          <a:xfrm>
            <a:off x="7835760" y="2235240"/>
            <a:ext cx="397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5713" descr=""/>
          <p:cNvPicPr/>
          <p:nvPr/>
        </p:nvPicPr>
        <p:blipFill>
          <a:blip r:embed="rId1"/>
          <a:stretch/>
        </p:blipFill>
        <p:spPr>
          <a:xfrm>
            <a:off x="762120" y="2238480"/>
            <a:ext cx="7619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4689" descr=""/>
          <p:cNvPicPr/>
          <p:nvPr/>
        </p:nvPicPr>
        <p:blipFill>
          <a:blip r:embed="rId1"/>
          <a:stretch/>
        </p:blipFill>
        <p:spPr>
          <a:xfrm>
            <a:off x="519120" y="1333440"/>
            <a:ext cx="8029440" cy="430524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4690"/>
          <p:cNvSpPr/>
          <p:nvPr/>
        </p:nvSpPr>
        <p:spPr>
          <a:xfrm>
            <a:off x="1403280" y="4797360"/>
            <a:ext cx="7345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4691"/>
          <p:cNvSpPr/>
          <p:nvPr/>
        </p:nvSpPr>
        <p:spPr>
          <a:xfrm>
            <a:off x="1346040" y="5273640"/>
            <a:ext cx="7345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13665" descr=""/>
          <p:cNvPicPr/>
          <p:nvPr/>
        </p:nvPicPr>
        <p:blipFill>
          <a:blip r:embed="rId1"/>
          <a:stretch/>
        </p:blipFill>
        <p:spPr>
          <a:xfrm>
            <a:off x="714240" y="762120"/>
            <a:ext cx="7543800" cy="577188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13666"/>
          <p:cNvSpPr/>
          <p:nvPr/>
        </p:nvSpPr>
        <p:spPr>
          <a:xfrm>
            <a:off x="812880" y="175896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7"/>
          <p:cNvSpPr/>
          <p:nvPr/>
        </p:nvSpPr>
        <p:spPr>
          <a:xfrm>
            <a:off x="907920" y="2225520"/>
            <a:ext cx="7575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68"/>
          <p:cNvSpPr/>
          <p:nvPr/>
        </p:nvSpPr>
        <p:spPr>
          <a:xfrm>
            <a:off x="812880" y="272088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69"/>
          <p:cNvSpPr/>
          <p:nvPr/>
        </p:nvSpPr>
        <p:spPr>
          <a:xfrm>
            <a:off x="784080" y="3206880"/>
            <a:ext cx="7575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70"/>
          <p:cNvSpPr/>
          <p:nvPr/>
        </p:nvSpPr>
        <p:spPr>
          <a:xfrm>
            <a:off x="784080" y="3683160"/>
            <a:ext cx="75758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71"/>
          <p:cNvSpPr/>
          <p:nvPr/>
        </p:nvSpPr>
        <p:spPr>
          <a:xfrm>
            <a:off x="746280" y="417816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72"/>
          <p:cNvSpPr/>
          <p:nvPr/>
        </p:nvSpPr>
        <p:spPr>
          <a:xfrm>
            <a:off x="727200" y="465444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3673"/>
          <p:cNvSpPr/>
          <p:nvPr/>
        </p:nvSpPr>
        <p:spPr>
          <a:xfrm>
            <a:off x="841320" y="514044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3674"/>
          <p:cNvSpPr/>
          <p:nvPr/>
        </p:nvSpPr>
        <p:spPr>
          <a:xfrm>
            <a:off x="860400" y="56642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75"/>
          <p:cNvSpPr/>
          <p:nvPr/>
        </p:nvSpPr>
        <p:spPr>
          <a:xfrm>
            <a:off x="822240" y="614052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2641" descr=""/>
          <p:cNvPicPr/>
          <p:nvPr/>
        </p:nvPicPr>
        <p:blipFill>
          <a:blip r:embed="rId1"/>
          <a:stretch/>
        </p:blipFill>
        <p:spPr>
          <a:xfrm>
            <a:off x="538200" y="871560"/>
            <a:ext cx="8029440" cy="528624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2642"/>
          <p:cNvSpPr/>
          <p:nvPr/>
        </p:nvSpPr>
        <p:spPr>
          <a:xfrm>
            <a:off x="955800" y="52736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2643"/>
          <p:cNvSpPr/>
          <p:nvPr/>
        </p:nvSpPr>
        <p:spPr>
          <a:xfrm>
            <a:off x="927000" y="57974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1617" descr=""/>
          <p:cNvPicPr/>
          <p:nvPr/>
        </p:nvPicPr>
        <p:blipFill>
          <a:blip r:embed="rId1"/>
          <a:stretch/>
        </p:blipFill>
        <p:spPr>
          <a:xfrm>
            <a:off x="762120" y="1519200"/>
            <a:ext cx="7543800" cy="389592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1618"/>
          <p:cNvSpPr/>
          <p:nvPr/>
        </p:nvSpPr>
        <p:spPr>
          <a:xfrm>
            <a:off x="1127160" y="20160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1619"/>
          <p:cNvSpPr/>
          <p:nvPr/>
        </p:nvSpPr>
        <p:spPr>
          <a:xfrm>
            <a:off x="1146240" y="248292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1620"/>
          <p:cNvSpPr/>
          <p:nvPr/>
        </p:nvSpPr>
        <p:spPr>
          <a:xfrm>
            <a:off x="1174680" y="29592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1621"/>
          <p:cNvSpPr/>
          <p:nvPr/>
        </p:nvSpPr>
        <p:spPr>
          <a:xfrm>
            <a:off x="1117440" y="3483000"/>
            <a:ext cx="7575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1622"/>
          <p:cNvSpPr/>
          <p:nvPr/>
        </p:nvSpPr>
        <p:spPr>
          <a:xfrm>
            <a:off x="1079640" y="397836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23"/>
          <p:cNvSpPr/>
          <p:nvPr/>
        </p:nvSpPr>
        <p:spPr>
          <a:xfrm>
            <a:off x="1079640" y="44640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4"/>
          <p:cNvSpPr/>
          <p:nvPr/>
        </p:nvSpPr>
        <p:spPr>
          <a:xfrm>
            <a:off x="1089000" y="49784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0593" descr=""/>
          <p:cNvPicPr/>
          <p:nvPr/>
        </p:nvPicPr>
        <p:blipFill>
          <a:blip r:embed="rId1"/>
          <a:stretch/>
        </p:blipFill>
        <p:spPr>
          <a:xfrm>
            <a:off x="738360" y="923760"/>
            <a:ext cx="75722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09569" descr=""/>
          <p:cNvPicPr/>
          <p:nvPr/>
        </p:nvPicPr>
        <p:blipFill>
          <a:blip r:embed="rId1"/>
          <a:stretch/>
        </p:blipFill>
        <p:spPr>
          <a:xfrm>
            <a:off x="590400" y="1757520"/>
            <a:ext cx="7963200" cy="340020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09570"/>
          <p:cNvSpPr/>
          <p:nvPr/>
        </p:nvSpPr>
        <p:spPr>
          <a:xfrm>
            <a:off x="1031760" y="2244600"/>
            <a:ext cx="7575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1"/>
          <p:cNvSpPr/>
          <p:nvPr/>
        </p:nvSpPr>
        <p:spPr>
          <a:xfrm>
            <a:off x="1012680" y="2759040"/>
            <a:ext cx="7575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2"/>
          <p:cNvSpPr/>
          <p:nvPr/>
        </p:nvSpPr>
        <p:spPr>
          <a:xfrm>
            <a:off x="974880" y="3225960"/>
            <a:ext cx="75754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3"/>
          <p:cNvSpPr/>
          <p:nvPr/>
        </p:nvSpPr>
        <p:spPr>
          <a:xfrm>
            <a:off x="1022400" y="37116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9574"/>
          <p:cNvSpPr/>
          <p:nvPr/>
        </p:nvSpPr>
        <p:spPr>
          <a:xfrm>
            <a:off x="1041480" y="420696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5"/>
          <p:cNvSpPr/>
          <p:nvPr/>
        </p:nvSpPr>
        <p:spPr>
          <a:xfrm>
            <a:off x="1060560" y="4702320"/>
            <a:ext cx="75754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108545" descr=""/>
          <p:cNvPicPr/>
          <p:nvPr/>
        </p:nvPicPr>
        <p:blipFill>
          <a:blip r:embed="rId1"/>
          <a:stretch/>
        </p:blipFill>
        <p:spPr>
          <a:xfrm>
            <a:off x="528480" y="747720"/>
            <a:ext cx="7991640" cy="5800680"/>
          </a:xfrm>
          <a:prstGeom prst="rect">
            <a:avLst/>
          </a:prstGeom>
          <a:ln w="0">
            <a:noFill/>
          </a:ln>
        </p:spPr>
      </p:pic>
      <p:sp>
        <p:nvSpPr>
          <p:cNvPr id="1501" name="矩形 108546"/>
          <p:cNvSpPr/>
          <p:nvPr/>
        </p:nvSpPr>
        <p:spPr>
          <a:xfrm>
            <a:off x="1003320" y="119232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8547"/>
          <p:cNvSpPr/>
          <p:nvPr/>
        </p:nvSpPr>
        <p:spPr>
          <a:xfrm>
            <a:off x="993600" y="1677960"/>
            <a:ext cx="757584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8548"/>
          <p:cNvSpPr/>
          <p:nvPr/>
        </p:nvSpPr>
        <p:spPr>
          <a:xfrm>
            <a:off x="936720" y="215424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08549"/>
          <p:cNvSpPr/>
          <p:nvPr/>
        </p:nvSpPr>
        <p:spPr>
          <a:xfrm>
            <a:off x="974880" y="268776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8550"/>
          <p:cNvSpPr/>
          <p:nvPr/>
        </p:nvSpPr>
        <p:spPr>
          <a:xfrm>
            <a:off x="1041480" y="317340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8551"/>
          <p:cNvSpPr/>
          <p:nvPr/>
        </p:nvSpPr>
        <p:spPr>
          <a:xfrm>
            <a:off x="1022400" y="3678120"/>
            <a:ext cx="75754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8552"/>
          <p:cNvSpPr/>
          <p:nvPr/>
        </p:nvSpPr>
        <p:spPr>
          <a:xfrm>
            <a:off x="936720" y="419256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8553"/>
          <p:cNvSpPr/>
          <p:nvPr/>
        </p:nvSpPr>
        <p:spPr>
          <a:xfrm>
            <a:off x="1031760" y="4678200"/>
            <a:ext cx="75758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08554"/>
          <p:cNvSpPr/>
          <p:nvPr/>
        </p:nvSpPr>
        <p:spPr>
          <a:xfrm>
            <a:off x="917640" y="5154480"/>
            <a:ext cx="75754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08555"/>
          <p:cNvSpPr/>
          <p:nvPr/>
        </p:nvSpPr>
        <p:spPr>
          <a:xfrm>
            <a:off x="927000" y="5630760"/>
            <a:ext cx="75754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08556"/>
          <p:cNvSpPr/>
          <p:nvPr/>
        </p:nvSpPr>
        <p:spPr>
          <a:xfrm>
            <a:off x="927000" y="611676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34360" cy="439128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6588000" y="235908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5969160" y="3102120"/>
            <a:ext cx="5648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6443640" y="3505320"/>
            <a:ext cx="5652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1663560" y="381636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3825720" y="4549680"/>
            <a:ext cx="10908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1177920" y="527364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3905" descr=""/>
          <p:cNvPicPr/>
          <p:nvPr/>
        </p:nvPicPr>
        <p:blipFill>
          <a:blip r:embed="rId1"/>
          <a:stretch/>
        </p:blipFill>
        <p:spPr>
          <a:xfrm>
            <a:off x="399960" y="2014560"/>
            <a:ext cx="8344080" cy="28288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3906"/>
          <p:cNvSpPr/>
          <p:nvPr/>
        </p:nvSpPr>
        <p:spPr>
          <a:xfrm>
            <a:off x="1701720" y="269244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7"/>
          <p:cNvSpPr/>
          <p:nvPr/>
        </p:nvSpPr>
        <p:spPr>
          <a:xfrm>
            <a:off x="4130640" y="304488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08"/>
          <p:cNvSpPr/>
          <p:nvPr/>
        </p:nvSpPr>
        <p:spPr>
          <a:xfrm>
            <a:off x="5549760" y="3406680"/>
            <a:ext cx="1043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09"/>
          <p:cNvSpPr/>
          <p:nvPr/>
        </p:nvSpPr>
        <p:spPr>
          <a:xfrm>
            <a:off x="3959280" y="414036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2881" descr=""/>
          <p:cNvPicPr/>
          <p:nvPr/>
        </p:nvPicPr>
        <p:blipFill>
          <a:blip r:embed="rId1"/>
          <a:stretch/>
        </p:blipFill>
        <p:spPr>
          <a:xfrm>
            <a:off x="404640" y="852480"/>
            <a:ext cx="8334720" cy="51721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2882"/>
          <p:cNvSpPr/>
          <p:nvPr/>
        </p:nvSpPr>
        <p:spPr>
          <a:xfrm>
            <a:off x="8140680" y="239724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2883"/>
          <p:cNvSpPr/>
          <p:nvPr/>
        </p:nvSpPr>
        <p:spPr>
          <a:xfrm>
            <a:off x="8150400" y="499752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8" descr=""/>
          <p:cNvPicPr/>
          <p:nvPr/>
        </p:nvPicPr>
        <p:blipFill>
          <a:blip r:embed="rId1"/>
          <a:stretch/>
        </p:blipFill>
        <p:spPr>
          <a:xfrm>
            <a:off x="433440" y="1380960"/>
            <a:ext cx="8334360" cy="139068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9" descr=""/>
          <p:cNvPicPr/>
          <p:nvPr/>
        </p:nvPicPr>
        <p:blipFill>
          <a:blip r:embed="rId2"/>
          <a:stretch/>
        </p:blipFill>
        <p:spPr>
          <a:xfrm>
            <a:off x="395280" y="3290760"/>
            <a:ext cx="8334360" cy="211464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21860"/>
          <p:cNvSpPr/>
          <p:nvPr/>
        </p:nvSpPr>
        <p:spPr>
          <a:xfrm>
            <a:off x="8188200" y="1758960"/>
            <a:ext cx="397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1"/>
          <p:cNvSpPr/>
          <p:nvPr/>
        </p:nvSpPr>
        <p:spPr>
          <a:xfrm>
            <a:off x="5921280" y="4083120"/>
            <a:ext cx="397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47246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4245120" y="180648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0835"/>
          <p:cNvSpPr/>
          <p:nvPr/>
        </p:nvSpPr>
        <p:spPr>
          <a:xfrm>
            <a:off x="8159760" y="446400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9809" descr=""/>
          <p:cNvPicPr/>
          <p:nvPr/>
        </p:nvPicPr>
        <p:blipFill>
          <a:blip r:embed="rId1"/>
          <a:stretch/>
        </p:blipFill>
        <p:spPr>
          <a:xfrm>
            <a:off x="371520" y="1384200"/>
            <a:ext cx="8334360" cy="40957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9811"/>
          <p:cNvSpPr/>
          <p:nvPr/>
        </p:nvSpPr>
        <p:spPr>
          <a:xfrm>
            <a:off x="8112240" y="259704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9812"/>
          <p:cNvSpPr/>
          <p:nvPr/>
        </p:nvSpPr>
        <p:spPr>
          <a:xfrm>
            <a:off x="8131320" y="405432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8785" descr=""/>
          <p:cNvPicPr/>
          <p:nvPr/>
        </p:nvPicPr>
        <p:blipFill>
          <a:blip r:embed="rId1"/>
          <a:stretch/>
        </p:blipFill>
        <p:spPr>
          <a:xfrm>
            <a:off x="357120" y="773280"/>
            <a:ext cx="8334360" cy="212400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118786" descr=""/>
          <p:cNvPicPr/>
          <p:nvPr/>
        </p:nvPicPr>
        <p:blipFill>
          <a:blip r:embed="rId2"/>
          <a:stretch/>
        </p:blipFill>
        <p:spPr>
          <a:xfrm>
            <a:off x="343080" y="3076560"/>
            <a:ext cx="8343720" cy="35910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8787"/>
          <p:cNvSpPr/>
          <p:nvPr/>
        </p:nvSpPr>
        <p:spPr>
          <a:xfrm>
            <a:off x="8093160" y="148284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8788"/>
          <p:cNvSpPr/>
          <p:nvPr/>
        </p:nvSpPr>
        <p:spPr>
          <a:xfrm>
            <a:off x="8093160" y="487368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7761" descr=""/>
          <p:cNvPicPr/>
          <p:nvPr/>
        </p:nvPicPr>
        <p:blipFill>
          <a:blip r:embed="rId1"/>
          <a:stretch/>
        </p:blipFill>
        <p:spPr>
          <a:xfrm>
            <a:off x="399960" y="2352600"/>
            <a:ext cx="8344080" cy="215280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7762"/>
          <p:cNvSpPr/>
          <p:nvPr/>
        </p:nvSpPr>
        <p:spPr>
          <a:xfrm>
            <a:off x="8150400" y="270180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18:54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